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26B8-ED86-4378-8F63-EF01B256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261-0FB0-4549-BD6C-590A1ED5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D40A-6705-4809-B3BE-824B9968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79C4-A921-4CA2-B947-D92406FD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6992-4DBD-4E61-9D22-1C70DA02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7A67-B5BE-430C-B897-F8F2242B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58F1-8BA0-45CE-AA8A-B3287F26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D021-A3A1-4C32-8035-03334F9D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28E0-B99C-4B62-A5A3-C47F8CD5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09A5-75CB-41E8-BB23-40142AB7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1264-B808-4440-9FB1-DAE79E53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0FC-B9E1-4B45-974C-368689A4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0C57-C2C5-4B90-96D3-9C072964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A237-C1DD-4BE0-856C-ADE3E475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E6BB-675A-45FC-BF72-3C5A74CB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9BA1-BBD0-45D4-B939-7E80DEAC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9A15-EABD-49D0-8DF0-0B7F765E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EFDD-5E35-4484-AD84-648B3CDD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C55-FE38-43D4-8B4A-1FFF96C1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1E10-DE3B-4A00-BAD2-D69F89F9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3AA-5092-4C20-9D94-EAE39E9F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38BB-0FDB-4E0A-8867-BD5B2300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C27A-71D4-46E5-BFBC-D677EC4F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01C-1F91-4F98-8EAA-8285AD65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49A4-ADA5-43F7-B6E8-CDEF4F461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88520"/>
            <a:ext cx="62481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577A-E386-4B34-8525-D74192D65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386160" cy="3962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00400" y="1523880"/>
            <a:ext cx="5410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tistik CE"/>
              </a:rPr>
              <a:t>"KUBUŚ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tistik CE"/>
              </a:rPr>
              <a:t>PUCHATEK"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43434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Miś o Bardzo Małym Rozumku..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5638680"/>
            <a:ext cx="80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Times New Roman"/>
              </a:rPr>
              <a:t>tytułowy bohater książki    A. A. Milne'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198600" cy="41054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80920" y="30492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 Black"/>
              </a:rPr>
              <a:t>Maleństw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9000" y="1447920"/>
            <a:ext cx="358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ajmłodszy mieszkaniec Stumilowego Lasu, żyje razem z noszącą go w torbie mamą Kangurzyc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132680" y="160020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76520" y="5105520"/>
            <a:ext cx="7467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Maleństwo nie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agnie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niczego innego jak tylko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zaimponować Tygrysowi i robić to, co Tygrys robi.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419112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Maleństwo ma ogromne skłonności do „brykania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blinds dir="horz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19560" y="22824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 Black"/>
              </a:rPr>
              <a:t>Królik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46483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Królik jest być moż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ajmądrzejszy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z całej paczki przyjaciół w Stumilowym Lesie. Często mianuje się go przywódcą grup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09680" y="2590920"/>
            <a:ext cx="4648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Królik jest czasem wybuchowy, szczególnie kiedy „bryknie” na niego Tygry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543800" y="1219320"/>
            <a:ext cx="1257480" cy="1954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09480" y="4419720"/>
            <a:ext cx="4343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ale pomimo tego jest jasne, ż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jest wiernym przyjacielem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 posiada serce ze zło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62120" y="3581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1521000" cy="17607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48320" y="3045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 Black"/>
              </a:rPr>
              <a:t>Pan Sow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ależy do starszyzny Stumilowego Las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Jest często wzywany przez Puchatka lub innych na pomoc, aby rozwiązać problem albo wyjaśnić spraw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581280" cy="2606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57200" y="434340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Uwielbia opowiadać historyjki.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blinds dir="horz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75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75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914400"/>
            <a:ext cx="4648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Kubuś Puchate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72160" y="1143000"/>
            <a:ext cx="3159000" cy="5127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0880" y="2514600"/>
            <a:ext cx="47246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jest własnością ogólnoludzką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21337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457200"/>
            <a:ext cx="4876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Kubuś Pucha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i jego przyjaci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2133720"/>
            <a:ext cx="815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99"/>
                </a:solidFill>
                <a:latin typeface="Times New Roman"/>
              </a:rPr>
              <a:t>LITERATURA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1. A. A. Milne “Kubuś Puchatek” Wyd. “Nasza Księgarnia” Warszawa 199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2. Wesoła Szkoł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Kształcenie zintegrowane w klasie 2;</a:t>
            </a:r>
            <a:br>
              <a:rPr sz="1800"/>
            </a:b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Przewodnik Metodyczny część 2, 3; Wydanie 1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Podręcznik cz. 2; Hanna Dobrowolska, Anna Koniecz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Karty pracy ucznia cz. 2; Hanna Dobrowolska, </a:t>
            </a:r>
            <a:br>
              <a:rPr sz="1800"/>
            </a:b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Anna Konieczna, Krystyna Wasilewsk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Matematyka cz. 2; Jadwiga Hanisz, WSiP, Warszawa 20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3. Przewodnik Metodyczny dla nauczyciela, Lektura Szkolna w klasach 1 – 3; </a:t>
            </a: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	</a:t>
            </a:r>
            <a:br>
              <a:rPr sz="1800"/>
            </a:b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Wyd. JUKA Łódź 199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4. Lektura w klasach I – III Krystyna Lenartowska i Wacława Świąte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5.  </a:t>
            </a:r>
            <a:r>
              <a:rPr b="1" lang="pl-PL" sz="1800" spc="-1" strike="noStrike">
                <a:solidFill>
                  <a:srgbClr val="003399"/>
                </a:solidFill>
                <a:latin typeface="Times New Roman"/>
              </a:rPr>
              <a:t>http://www.puchatek.hm.pl</a:t>
            </a: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    - Strona Szymona - małe co nie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5335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9966"/>
                </a:solidFill>
                <a:latin typeface="Arial"/>
              </a:rPr>
              <a:t>Alan Alexander Mil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339966"/>
                </a:solidFill>
                <a:latin typeface="Arial"/>
              </a:rPr>
              <a:t>urodził się 18 stycznia 1882 r. </a:t>
            </a:r>
            <a:br>
              <a:rPr sz="2400"/>
            </a:br>
            <a:r>
              <a:rPr b="0" i="1" lang="pl-PL" sz="2400" spc="-1" strike="noStrike">
                <a:solidFill>
                  <a:srgbClr val="339966"/>
                </a:solidFill>
                <a:latin typeface="Arial"/>
              </a:rPr>
              <a:t>w Londynie,</a:t>
            </a:r>
            <a:r>
              <a:rPr b="0" lang="pl-PL" sz="2400" spc="-1" strike="noStrike">
                <a:solidFill>
                  <a:srgbClr val="339966"/>
                </a:solidFill>
                <a:latin typeface="Arial"/>
              </a:rPr>
              <a:t> </a:t>
            </a:r>
            <a:r>
              <a:rPr b="0" lang="pl-P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6765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9966"/>
                </a:solidFill>
                <a:latin typeface="Times New Roman"/>
              </a:rPr>
              <a:t>zmarł 31 stycznia 1956 rok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20574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Times New Roman"/>
              </a:rPr>
              <a:t>W 1920 roku urodził się jego jedyny syn Christopher Robin (Krzyś).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3124080"/>
            <a:ext cx="8305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zejęty narodzinami syna tat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zabrał się do pisania dla niego książk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19112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66"/>
                </a:solidFill>
                <a:latin typeface="Times New Roman"/>
              </a:rPr>
              <a:t>W 1926 roku wydany zosta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66"/>
                </a:solidFill>
                <a:latin typeface="Times New Roman"/>
              </a:rPr>
              <a:t>w Londy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339966"/>
                </a:solidFill>
                <a:latin typeface="Times New Roman"/>
              </a:rPr>
              <a:t>,,Kubuś Puchatek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339966"/>
                </a:solidFill>
                <a:latin typeface="Times New Roman"/>
              </a:rPr>
              <a:t>("Winnie the Pooh"),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5334120" y="464832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a w roku 19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,,Chatka Puchatka''.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0" y="457200"/>
            <a:ext cx="1886040" cy="30639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3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kocha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ły mi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miesz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w głęb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1600" y="414360"/>
            <a:ext cx="414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Kubuś Puchat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6019920" cy="4515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4876920"/>
            <a:ext cx="3200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Times New Roman"/>
              </a:rPr>
              <a:t>Stumilowe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Times New Roman"/>
              </a:rPr>
              <a:t>La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blinds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5791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 zabawne - pomyślał Puchatek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- Wiem, że miałem tu garnek miodu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ełen garnek, pełen miodu aż po brzegi,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 na nim było napis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8862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żebym wiedział że to jes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2971800"/>
            <a:ext cx="2895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JUT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4495680"/>
            <a:ext cx="5029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ÓD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5000"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3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200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rzy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ygry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siacz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ról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łapouch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ana Sow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angurzy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 Maleń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04920"/>
            <a:ext cx="777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80"/>
                </a:solidFill>
                <a:uFillTx/>
                <a:latin typeface="Times New Roman"/>
              </a:rPr>
              <a:t>Kubuś Puchatek</a:t>
            </a: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ba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o szczęście swoich przyjació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67120" y="1371600"/>
            <a:ext cx="5276880" cy="4505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538960" y="0"/>
            <a:ext cx="3605040" cy="4572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Krzyś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Zaczął opowiadać Puchatkowi </a:t>
            </a:r>
            <a:br>
              <a:rPr sz="2400"/>
            </a:b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o rozmaitych rzeczach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2438280"/>
            <a:ext cx="5790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 ludziach zwanych Królami i Królowymi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267000"/>
            <a:ext cx="57909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 o miejscu zwanym Europą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733920"/>
            <a:ext cx="5790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i o wyspie na samym środku morza, dokąd żaden statek jeszcze nie przypłynął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572000"/>
            <a:ext cx="5791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 jak się napełnia base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wodą (jeśli się chce)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181480"/>
            <a:ext cx="579096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i o tym jak za dawnych czasów pasowano młodzieńców na rycerzy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5867280"/>
            <a:ext cx="3657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 co przychodzi z Cejlonu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blinds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358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 Black"/>
              </a:rPr>
              <a:t>Kłapouchy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410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Kłapouchy jest czarującym, melancholijnym osiołki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5880" y="304920"/>
            <a:ext cx="2286000" cy="2342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066680" y="4267080"/>
            <a:ext cx="5181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Kłapouchy nie jest zbyt żwaw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a dobre serce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i zawsze jest wdzięczny za wszystk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2743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Gdy przyjaciele wręczają Kłapouchemu coś miłego ten zazwyczaj mówi: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„dziękuję”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lub coś podobn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629400" y="43434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657600" y="5257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95280" y="3962520"/>
            <a:ext cx="2378160" cy="2342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 Black"/>
              </a:rPr>
              <a:t>Prosiaczek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55623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lutki Prosiaczek o łagodnym gło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jest bojaźliwym zwierzątkiem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Jest szczodry i oddany duchem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 sprawia, że swoim charakterem przeważa skromny wzr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4114800"/>
            <a:ext cx="5334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Ze swoimi różowymi uszkami, swetrem w czerwono-czarne paski i zimowym szalikiem na szyi.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siaczek jest skromny, zawsze gościnny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 obdarzony bogatą wyobraźni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05520" y="-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 Black"/>
              </a:rPr>
              <a:t>Tygry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053120" y="3429000"/>
            <a:ext cx="2090880" cy="3429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90720" y="4267080"/>
            <a:ext cx="5029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Tygrys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zawsze przechwala się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, że jest jedyny i niepowtarzaln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1523880"/>
            <a:ext cx="365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to skaczący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fikający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i bryka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819520"/>
            <a:ext cx="4724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mieszkaniec Stumilowego La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iecznie skory do zabawy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57680" cy="291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1T23:11:04Z</dcterms:created>
  <dc:creator>ggg</dc:creator>
  <dc:description/>
  <dc:language>en-US</dc:language>
  <cp:lastModifiedBy>sp20</cp:lastModifiedBy>
  <dcterms:modified xsi:type="dcterms:W3CDTF">2011-10-10T11:53:58Z</dcterms:modified>
  <cp:revision>85</cp:revision>
  <dc:subject/>
  <dc:title>Bez tytułu slajdu</dc:title>
</cp:coreProperties>
</file>